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689-C8B7-4B9F-94C1-7DBBEE12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F5E-6846-4165-95D8-A1B0017E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882-129C-4AF0-8BA3-AA542C15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79F-A02A-4A47-9866-6521FE7A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F897-025D-4348-BD9E-DD8F6B55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54E-3DF1-43B3-B689-B63E66A2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297A-F394-4181-BCC7-ABC4D2AB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2ED-9335-4AD4-A5A9-166B65A9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F027-5B1B-4130-8032-51C228B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839-29F1-4C4E-8D20-71C5A9B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2315-3CA3-4971-9B51-860B573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EA1-2570-4638-AEB0-CF52EF4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A321-65A7-4A26-A5BA-03C8254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9218-1C94-4831-BA1B-D848371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C87-0F7B-45E5-8079-BFB02C0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6C68-972E-41CA-9B1F-F0552C3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9A9A-966A-4F33-98AA-2323A1AB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A3F7-DBC3-4D6A-9CAD-3B170A5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46D4-3F43-4894-B0EA-D3BB6117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B409-0284-4D3A-B88D-5B1C04F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C6AD-9321-4A38-9983-3A9FC18E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445DF-E58A-4892-9B6D-E863DEB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014-B726-4A50-A6C7-21CDB2B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D7F6-6A9E-4770-A438-3B17CF7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9C1D-74AA-41D3-A37E-A7E3F0A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FD17-D5F0-49D6-AD82-5B69706F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B126-BDF9-4189-84F6-3692B0B5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4409-64D5-4D76-B8B4-72454D00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F404-8626-4BD5-ACB7-1612C06A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1D14-C3ED-4409-B81A-86F453D4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48FB-45F3-4FCF-8FAD-EF8E709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E1B8-6928-4668-B521-4891222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4F44-2C71-45C5-A7D3-6185B225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AD1-330C-498E-A1E5-01CA848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94D3-FCEE-4F3E-ADA1-3EA2ED3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A705-BE81-4C26-9E90-58396EC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76491-EB60-4DB2-8C40-ADB7E19C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2E4B-8AF7-4725-9B87-B39C429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2CD6-2C1F-40A0-8841-3ED42C3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8F4EE-C5BB-4D25-B530-638DE10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CAED8-C603-47C1-A4CD-D4525871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121D-F8B3-48CF-B571-EAB2A0BB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EBA80-12C9-41EC-B876-4AA6D1E5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C956-FEEB-4794-85D5-CCF6534A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A0A-87AE-45B5-912C-B158F47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1448-7141-4027-A30C-28B9FD3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E0608-F707-44F0-B99E-75FEB0C9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CF8E-27A0-495F-B3DF-BC5AE44D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4B2A-FECC-44D8-9B1D-09AD83F2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0377-60A6-47CE-8ECE-5FDD494D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3EE8-30F8-4566-8D6B-E0481B5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D7E6-0AB6-450E-92BC-3993554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105A-399B-44EE-9266-125446B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284A-963E-49B6-ABAD-3D2D49FA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FAF2-B2B6-4C75-9D8A-7FABB4B0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E12-6F4B-4BDE-8878-E812C6D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F915-1C64-49D7-B62F-BEC603EA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CF6-7164-4304-BC64-256EEC9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765-202D-4998-9AC8-743106DF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7FA-723B-4179-8413-68D566A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A15F-A154-425D-8D93-1B6AC6DF68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247-F037-4396-BA8B-CE21777966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07FC-72D4-4D9E-9D57-861D82220B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94C4-A31F-499A-BA2B-15070B5D60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A478-AA3D-45F1-BEC9-A5A9AF155E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atitude%20and%20Longitude%20-%20YouTube.mp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eather%20%20%20Climate%201%20of%205%20-%20YouTube.mp4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Perpetua"/>
              </a:rPr>
              <a:t>6 Factors that Affect Climate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Book"/>
              </a:rPr>
              <a:t>World Climate</a:t>
            </a:r>
            <a:endParaRPr b="0" lang="en-US" sz="7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 Latitud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maginary lines that measures north and south of the equat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lose to the equator is low latit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re heat from the su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lose to the poles is high latit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ss heat from the su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Latitude and Longitude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5486400" y="3102120"/>
            <a:ext cx="3048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 Altitude or Elev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affects temperatu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igher a place is , the cooler the temperature 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lower a place is , the warmer the temperature 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Weather   Climate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114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 Nearness to Wa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laces close to large bodies of water generally have mild clim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ater holds heat longer than land are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2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5105520" y="3502080"/>
            <a:ext cx="38862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 The direction of prevailing win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winds that blow most often in an are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example: the winds that blow from the pacific ocean to Canada’s west cast (British Columbia) are warm and moist so the west coast gets a lot of r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3 of 5 - YouTube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5257800" y="3181320"/>
            <a:ext cx="3824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 Landfor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y affect precipitation (rain and sno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ocean air rises over mountains, the air expands and becomes thinn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oisture becomes too heavy for the air to hold 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will be released as rain or sno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4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257800" y="4216320"/>
            <a:ext cx="350532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6 factors that affect Clim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6.  Cloud Cov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will prevent much of the sun’s energy from reaching the earth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is why cloudy days are cooler than sunny day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oud cover also prevents heat from escaping overnigh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eather   Climate 5 of 5 - YouTube.mp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181480" y="3917880"/>
            <a:ext cx="3619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actors That Affect Climate - YouTube.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ill Nye The Science Guy - Climates (Full Episode) - YouTube.mp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6:14:07Z</dcterms:created>
  <dc:creator>ladmin</dc:creator>
  <dc:description/>
  <dc:language>en-US</dc:language>
  <cp:lastModifiedBy>Terry, Sean J. (ASD-E)</cp:lastModifiedBy>
  <dcterms:modified xsi:type="dcterms:W3CDTF">2017-12-06T02:14:51Z</dcterms:modified>
  <cp:revision>12</cp:revision>
  <dc:subject/>
  <dc:title>World Climate</dc:title>
</cp:coreProperties>
</file>